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7A5B-0CA1-4510-B1FF-E44D066D6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405-9F5F-4AB6-91EF-AD27AEFC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CE3-4D81-4DC2-A72E-ECD0DFED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C1A-D401-404C-A46C-63310101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BEE-3FDA-493B-ACDB-4123541A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31C-7796-47A0-A4A9-ADF073F3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C5B-CD8E-45C0-B9EF-AEE57DA0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E17-B71A-4A42-B3F8-BD74AA9B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82C-E6D8-46C3-B108-7541B0CB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CC9-355E-42F9-8EB4-6076B782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04E-1F1A-4DE3-98E6-566C7774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0A2-1DF1-4CD8-8F5E-5CE6C88E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C16-EE4D-4744-910D-1510E7A9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FC72-28E4-49EB-9F2C-AB19FDD08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plosive exper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ggles, bench mat, tongs, bunsen, lighter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FULLY put magnesium in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kull-crossbones-646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114300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energy is being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hen magnesium is burned, energy is released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a new substance being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A new substance forms, it i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is new substance lighter or hea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aking a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A word which means ‘energy released’ is </a:t>
            </a: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exothermic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think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9810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213372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81480" y="205740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743200" y="2133720"/>
            <a:ext cx="68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24680" y="2057400"/>
            <a:ext cx="914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e.g. oxygen + oxyg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3520" y="2133720"/>
            <a:ext cx="8229600" cy="3351600"/>
            <a:chOff x="533520" y="2133720"/>
            <a:chExt cx="8229600" cy="3351600"/>
          </a:xfrm>
        </p:grpSpPr>
        <p:sp>
          <p:nvSpPr>
            <p:cNvPr id="67" name="Text Box 5"/>
            <p:cNvSpPr/>
            <p:nvPr/>
          </p:nvSpPr>
          <p:spPr>
            <a:xfrm>
              <a:off x="533520" y="2133720"/>
              <a:ext cx="8229600" cy="33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105520" y="320868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80880" y="4876920"/>
            <a:ext cx="7619760" cy="1677960"/>
            <a:chOff x="380880" y="4876920"/>
            <a:chExt cx="7619760" cy="1677960"/>
          </a:xfrm>
        </p:grpSpPr>
        <p:sp>
          <p:nvSpPr>
            <p:cNvPr id="70" name="Text Box 8"/>
            <p:cNvSpPr/>
            <p:nvPr/>
          </p:nvSpPr>
          <p:spPr>
            <a:xfrm>
              <a:off x="380880" y="4876920"/>
              <a:ext cx="4647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.  For example, hydrogen looks like this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5638680" y="5105520"/>
              <a:ext cx="2361960" cy="762120"/>
              <a:chOff x="5638680" y="5105520"/>
              <a:chExt cx="2361960" cy="76212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6019560" y="548640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56386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72388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380880" y="4191120"/>
            <a:ext cx="8229600" cy="2301120"/>
            <a:chOff x="380880" y="4191120"/>
            <a:chExt cx="8229600" cy="2301120"/>
          </a:xfrm>
        </p:grpSpPr>
        <p:sp>
          <p:nvSpPr>
            <p:cNvPr id="76" name="Text Box 7"/>
            <p:cNvSpPr/>
            <p:nvPr/>
          </p:nvSpPr>
          <p:spPr>
            <a:xfrm>
              <a:off x="380880" y="4191120"/>
              <a:ext cx="4191120" cy="23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095880" y="4191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685800" y="10666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two elements join the name ends with ____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.g. Magnesium + oxyg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838080"/>
            <a:ext cx="792504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533520" y="609480"/>
            <a:ext cx="8153280" cy="1937880"/>
            <a:chOff x="533520" y="609480"/>
            <a:chExt cx="8153280" cy="1937880"/>
          </a:xfrm>
        </p:grpSpPr>
        <p:sp>
          <p:nvSpPr>
            <p:cNvPr id="82" name="Text Box 4"/>
            <p:cNvSpPr/>
            <p:nvPr/>
          </p:nvSpPr>
          <p:spPr>
            <a:xfrm>
              <a:off x="533520" y="609480"/>
              <a:ext cx="8153280" cy="1937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ite or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________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5410080" y="22096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457200" y="3124080"/>
            <a:ext cx="8229600" cy="2785320"/>
            <a:chOff x="457200" y="3124080"/>
            <a:chExt cx="8229600" cy="2785320"/>
          </a:xfrm>
        </p:grpSpPr>
        <p:sp>
          <p:nvSpPr>
            <p:cNvPr id="85" name="Text Box 7"/>
            <p:cNvSpPr/>
            <p:nvPr/>
          </p:nvSpPr>
          <p:spPr>
            <a:xfrm>
              <a:off x="457200" y="3124080"/>
              <a:ext cx="533412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172200" y="312408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5:16Z</dcterms:modified>
  <cp:revision>15</cp:revision>
  <dc:subject/>
  <dc:title>Naming Compounds cations and anions</dc:title>
</cp:coreProperties>
</file>